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72EC-1B41-492F-8233-296E3285AF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CB08-C084-4200-AC69-05BB90B4C10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B206-8DAE-4A1E-897C-3D9415E23A2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0E3F-62B3-444D-8BDE-FA04F49F770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45B5-5A26-49C9-9BC3-E110A319E03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882F-D576-4BEC-88D5-30172BA6E7C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EB86-F2D5-4E42-974E-12B3A872B13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AE29-578A-4066-973C-A73495E6A30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AB55-1E02-4345-B4AE-EB25962E8B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92D3-23E0-4C90-AE30-9763022DDA4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4B99-9CE9-4168-AE81-588EC6E30E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0466-0BAE-478F-AE75-CF51DB7407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D9CA-D7DF-4099-89D6-693F2065F9E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0B29-BCA4-458C-A283-19212417402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D618-9BCA-4978-A226-4F8A318B300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89E0-57D2-4658-95AA-337F73EDFF7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D8B7-AE9A-4B7A-B150-20ED2E6AE82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9625-BB70-491C-80CA-6A89A11B646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7C04-4569-452C-9ACA-6E1258DC84D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A3B0-F578-4F34-9F69-6E2DF955C3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6D00-35E9-4B4A-B3AE-BF3AD5D9DE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7664-5389-4144-AF74-45BB33589C5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556E-E57E-4E93-8449-D3372C6E76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9028-7B26-4680-9A70-8299174F87F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5181-9A74-4DE3-88FA-468F5271DA0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4B62-9F8E-405F-A6ED-03800577EC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7C45-35C2-4685-A150-DF25D36865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730C-3C86-4AC8-8D1F-CE5EBB315AA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4E68-A564-4412-8613-7DA91C9C74C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E34A-A670-41AC-B6FD-A99E5D73145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CA0C-F609-4A78-B0A7-BAF3A7E98FC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E0D6-70D1-48B7-A871-FFBAEB395D2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0D17-2685-4CF2-B1BD-40358E7EE6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C30D-A664-4778-A7F8-426215E3636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1EAB-E6D8-45D0-BEEB-3DCC8DD835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432C-367F-4626-87A9-FFDD0A6C78C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FBE2-2DC0-45B9-AF59-4E03BC3907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F61B-9F0C-482C-89F3-54181A50571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FF42-9344-4CD8-8E2A-D7851491811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69B-A26A-4CBA-A143-ED980ADF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B59-524E-4DE5-8B26-02402ADE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A51-5FEB-4BE5-B880-644258C3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7E9-93F2-4CD8-BF88-05DC08E8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68A-1052-4BA9-A947-80485A29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5AA-93A1-4AE1-9386-C28BC9C8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6D2-B02A-4C93-9C8E-BF4F8BD1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570-3379-46A7-8F8F-6604CBFE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592-B44B-4E10-ACF5-94599E70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437-7351-4318-924C-133D888A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C30-DCFE-46E6-9185-955A3DEC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3E3-06E1-4311-A2AF-CCBB7EC8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1252-D7B0-4FF5-952C-BC20414E1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248400" y="6137280"/>
            <a:ext cx="14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DEF1-3AF5-404F-8763-75B2620485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Mo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mu was one twelfth the mass of a carbon 12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the mole is the number of atoms in 12 grams of carbon-12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decimal number on the periodic table 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ss of the average atom in am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ss of 1 mole of those atoms in gra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am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ss of 1 mole of an element in gra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01 grams of carbon has the same number of atoms as 1.01 grams of hydrogen and 55.85 grams of ir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write this 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.01 g C = 1 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count things by weighing the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uch would 2.34 moles of carbon weig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moles of magnesium in 4.61 g of Mg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atoms of lithium in 1.00 g of Li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uch would 3.45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oms of U weig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about compounds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1 mole of 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molecules there are two moles of H atoms and 1 mole of O ato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find the mass of one mole of a compoun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the moles of the elements they h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out how much they would weig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them 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about compounds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mass of one mole of  C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mole of C = 12.01 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 mole of H x 1.01 g = 4.04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mole C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2.01 + 4.04 = 16.05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lar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ss of 1 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molar mass of Fe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moles of Fe x 55.85 g = 111.70 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moles of O x 16.00 g  = 48.00 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GFM = 111.70 g + 48.00 g = 159.70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e the molar mass of the follo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8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emical Quantit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295280" y="3809880"/>
            <a:ext cx="685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afd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Our Friend the Mole"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sing Molar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ing moles of compou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ing pieces by weigh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lar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umber of grams in 1 mole of atoms, formula units, or molecu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make conversion factors from thes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change grams of a compound to moles of a compoun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moles to gra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moles is 5.69 g of NaO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966960" y="2448000"/>
                <a:ext cx="610704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 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   1  mole 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 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 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Rectangle 5"/>
          <p:cNvSpPr/>
          <p:nvPr/>
        </p:nvSpPr>
        <p:spPr>
          <a:xfrm>
            <a:off x="609480" y="3505320"/>
            <a:ext cx="7925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 to change grams to m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mole Na = 22.99g    1 mol O = 16.00 g 1 mole of H = 1.01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mole NaOH = 40.0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moles is 5.69 g of NaO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905040" y="2381400"/>
                <a:ext cx="818820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 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   1  mole 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 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 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= 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2 mol Na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Rectangle 5"/>
          <p:cNvSpPr/>
          <p:nvPr/>
        </p:nvSpPr>
        <p:spPr>
          <a:xfrm>
            <a:off x="609480" y="3505320"/>
            <a:ext cx="7925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 to change grams to m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mole Na = 22.99g    1 mol O = 16.00 g 1 mole of H = 1.01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mole NaOH = 40.0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ses and the Mo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y of the chemicals we deal with are gas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are difficult to weigh, so we’ll measure volu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 to know how many moles of gas we ha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things affect the volume of a g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ure and press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e at the same temp. and press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Temperature and Pres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794960"/>
            <a:ext cx="81532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vogadro's Hypothesi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at the same temperature and pressure equal volumes of gas have the same number of partic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ºC and 1 atmosphere pressur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breviated at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73 K and 101.3 k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Pa is kiloPasc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ndard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mperature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94960"/>
            <a:ext cx="81532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breviated ST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STP 1 mole of gas occupies 22.4 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led the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olar volu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Used for conversion fac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oles to Liter and L to m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volume of 4.59 mole of CO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gas at STP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of a g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 = m /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a gas the units will be  g / 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determine the density of any gas at STP if we know its formul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find the density we need the mass and the volum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assume you have 1 mole than the mass is the molar mass (P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STP the volume is 22.4 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w you measure how much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can measure mass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volume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you can count piec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measure mass in gra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measure volume in liter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ount pieces in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MOLES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density of C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ST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Quizd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density of C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ST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other wa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ven the density, we can find the molar mass of the g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ain, pretend you have a mole at STP, so V = 22.4 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 = D x 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 is the mass of 1 mole, since you have 22.4 L of the stuff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molar mass of a gas with a density of 1.964 g/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l the things we can chan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1"/>
          <p:cNvGrpSpPr/>
          <p:nvPr/>
        </p:nvGrpSpPr>
        <p:grpSpPr>
          <a:xfrm>
            <a:off x="463680" y="1225440"/>
            <a:ext cx="4052880" cy="1435320"/>
            <a:chOff x="463680" y="1225440"/>
            <a:chExt cx="4052880" cy="1435320"/>
          </a:xfrm>
        </p:grpSpPr>
        <p:sp>
          <p:nvSpPr>
            <p:cNvPr id="124" name="Arc 2"/>
            <p:cNvSpPr/>
            <p:nvPr/>
          </p:nvSpPr>
          <p:spPr>
            <a:xfrm>
              <a:off x="2629080" y="1449360"/>
              <a:ext cx="1887480" cy="67788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rc 10"/>
            <p:cNvSpPr/>
            <p:nvPr/>
          </p:nvSpPr>
          <p:spPr>
            <a:xfrm>
              <a:off x="2576520" y="1752480"/>
              <a:ext cx="1484280" cy="76212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463680" y="1225440"/>
              <a:ext cx="2349360" cy="1435320"/>
            </a:xfrm>
            <a:prstGeom prst="hexagon">
              <a:avLst>
                <a:gd name="adj" fmla="val 40912"/>
                <a:gd name="vf" fmla="val 115470"/>
              </a:avLst>
            </a:prstGeom>
            <a:solidFill>
              <a:srgbClr val="cecece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671040" y="1630440"/>
              <a:ext cx="20167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Volum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37"/>
          <p:cNvGrpSpPr/>
          <p:nvPr/>
        </p:nvGrpSpPr>
        <p:grpSpPr>
          <a:xfrm>
            <a:off x="6172200" y="4730760"/>
            <a:ext cx="2660760" cy="1587600"/>
            <a:chOff x="6172200" y="4730760"/>
            <a:chExt cx="2660760" cy="1587600"/>
          </a:xfrm>
        </p:grpSpPr>
        <p:sp>
          <p:nvSpPr>
            <p:cNvPr id="129" name="Arc 15"/>
            <p:cNvSpPr/>
            <p:nvPr/>
          </p:nvSpPr>
          <p:spPr>
            <a:xfrm>
              <a:off x="6172200" y="5334120"/>
              <a:ext cx="1103400" cy="53316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rc 21"/>
            <p:cNvSpPr/>
            <p:nvPr/>
          </p:nvSpPr>
          <p:spPr>
            <a:xfrm>
              <a:off x="6705720" y="4802040"/>
              <a:ext cx="687240" cy="53352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23"/>
            <p:cNvSpPr/>
            <p:nvPr/>
          </p:nvSpPr>
          <p:spPr>
            <a:xfrm>
              <a:off x="6940440" y="4730760"/>
              <a:ext cx="1892520" cy="1587600"/>
            </a:xfrm>
            <a:prstGeom prst="diamond">
              <a:avLst/>
            </a:prstGeom>
            <a:solidFill>
              <a:srgbClr val="d49fff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7376040" y="5211720"/>
              <a:ext cx="1227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Ion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36"/>
          <p:cNvGrpSpPr/>
          <p:nvPr/>
        </p:nvGrpSpPr>
        <p:grpSpPr>
          <a:xfrm>
            <a:off x="615960" y="4992840"/>
            <a:ext cx="2355840" cy="1172880"/>
            <a:chOff x="615960" y="4992840"/>
            <a:chExt cx="2355840" cy="1172880"/>
          </a:xfrm>
        </p:grpSpPr>
        <p:sp>
          <p:nvSpPr>
            <p:cNvPr id="134" name="Arc 13"/>
            <p:cNvSpPr/>
            <p:nvPr/>
          </p:nvSpPr>
          <p:spPr>
            <a:xfrm>
              <a:off x="2173320" y="4992840"/>
              <a:ext cx="533520" cy="60948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rc 14"/>
            <p:cNvSpPr/>
            <p:nvPr/>
          </p:nvSpPr>
          <p:spPr>
            <a:xfrm>
              <a:off x="2362320" y="5486400"/>
              <a:ext cx="609480" cy="53352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20"/>
            <p:cNvSpPr/>
            <p:nvPr/>
          </p:nvSpPr>
          <p:spPr>
            <a:xfrm>
              <a:off x="615960" y="5416560"/>
              <a:ext cx="1892160" cy="749160"/>
            </a:xfrm>
            <a:prstGeom prst="roundRect">
              <a:avLst>
                <a:gd name="adj" fmla="val 43120"/>
              </a:avLst>
            </a:prstGeom>
            <a:solidFill>
              <a:srgbClr val="a2ffa3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22"/>
            <p:cNvSpPr/>
            <p:nvPr/>
          </p:nvSpPr>
          <p:spPr>
            <a:xfrm>
              <a:off x="671400" y="5440320"/>
              <a:ext cx="1762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Atom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Group 38"/>
          <p:cNvGrpSpPr/>
          <p:nvPr/>
        </p:nvGrpSpPr>
        <p:grpSpPr>
          <a:xfrm>
            <a:off x="1986840" y="3149640"/>
            <a:ext cx="5016600" cy="2764080"/>
            <a:chOff x="1986840" y="3149640"/>
            <a:chExt cx="5016600" cy="2764080"/>
          </a:xfrm>
        </p:grpSpPr>
        <p:sp>
          <p:nvSpPr>
            <p:cNvPr id="139" name="Oval 5"/>
            <p:cNvSpPr/>
            <p:nvPr/>
          </p:nvSpPr>
          <p:spPr>
            <a:xfrm>
              <a:off x="4292640" y="3149640"/>
              <a:ext cx="635040" cy="16254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 flipH="1" flipV="1" rot="10800000">
              <a:off x="1986480" y="4577400"/>
              <a:ext cx="5016600" cy="1282680"/>
            </a:xfrm>
            <a:prstGeom prst="pie">
              <a:avLst/>
            </a:prstGeom>
            <a:solidFill>
              <a:srgbClr val="fda4b5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7"/>
            <p:cNvSpPr/>
            <p:nvPr/>
          </p:nvSpPr>
          <p:spPr>
            <a:xfrm>
              <a:off x="2653200" y="4602240"/>
              <a:ext cx="382140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Representativ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     </a:t>
              </a: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Particle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32"/>
          <p:cNvGrpSpPr/>
          <p:nvPr/>
        </p:nvGrpSpPr>
        <p:grpSpPr>
          <a:xfrm>
            <a:off x="4762440" y="920880"/>
            <a:ext cx="3613320" cy="1587240"/>
            <a:chOff x="4762440" y="920880"/>
            <a:chExt cx="3613320" cy="1587240"/>
          </a:xfrm>
        </p:grpSpPr>
        <p:sp>
          <p:nvSpPr>
            <p:cNvPr id="143" name="Arc 3"/>
            <p:cNvSpPr/>
            <p:nvPr/>
          </p:nvSpPr>
          <p:spPr>
            <a:xfrm>
              <a:off x="4932360" y="1752480"/>
              <a:ext cx="1657440" cy="68580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rc 4"/>
            <p:cNvSpPr/>
            <p:nvPr/>
          </p:nvSpPr>
          <p:spPr>
            <a:xfrm>
              <a:off x="4762440" y="1601640"/>
              <a:ext cx="1594080" cy="67788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6254640" y="920880"/>
              <a:ext cx="2121120" cy="15872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6613920" y="1325520"/>
              <a:ext cx="14529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Mas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9"/>
          <p:cNvSpPr/>
          <p:nvPr/>
        </p:nvSpPr>
        <p:spPr>
          <a:xfrm>
            <a:off x="5334120" y="1752480"/>
            <a:ext cx="1752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3435480" y="1454040"/>
            <a:ext cx="2349360" cy="1816200"/>
          </a:xfrm>
          <a:prstGeom prst="triangle">
            <a:avLst>
              <a:gd name="adj" fmla="val 49995"/>
            </a:avLst>
          </a:prstGeom>
          <a:solidFill>
            <a:srgbClr val="fafd00"/>
          </a:solidFill>
          <a:ln w="1260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794760" y="2468520"/>
            <a:ext cx="1622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5fb"/>
                </a:solidFill>
                <a:latin typeface="Arial"/>
              </a:rPr>
              <a:t>Mo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3352680" y="3581280"/>
            <a:ext cx="2819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6.02 x 10</a:t>
            </a:r>
            <a:r>
              <a:rPr b="1" lang="en-US" sz="4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2743200" y="1676520"/>
            <a:ext cx="1752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22.4 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3657600" y="5943600"/>
            <a:ext cx="1905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ou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AutoShape 27"/>
          <p:cNvCxnSpPr>
            <a:stCxn id="152" idx="1"/>
            <a:endCxn id="137" idx="3"/>
          </p:cNvCxnSpPr>
          <p:nvPr/>
        </p:nvCxnSpPr>
        <p:spPr>
          <a:xfrm rot="10800000">
            <a:off x="2434680" y="5790600"/>
            <a:ext cx="1222920" cy="504000"/>
          </a:xfrm>
          <a:prstGeom prst="curvedConnector5">
            <a:avLst>
              <a:gd name="adj1" fmla="val 50000"/>
              <a:gd name="adj2" fmla="val 49964"/>
              <a:gd name="adj3" fmla="val 50000"/>
            </a:avLst>
          </a:prstGeom>
          <a:ln w="7632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154" name="AutoShape 28"/>
          <p:cNvCxnSpPr>
            <a:stCxn id="152" idx="3"/>
            <a:endCxn id="131" idx="1"/>
          </p:cNvCxnSpPr>
          <p:nvPr/>
        </p:nvCxnSpPr>
        <p:spPr>
          <a:xfrm flipV="1">
            <a:off x="5562360" y="5523840"/>
            <a:ext cx="1378440" cy="770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fafd00"/>
            </a:solidFill>
            <a:miter/>
            <a:tailEnd len="med" type="triangle" w="med"/>
          </a:ln>
        </p:spPr>
      </p:cxn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cent Composi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 all perc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   x 100 %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wh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mass of each component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vide by the total mas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809640" y="237816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percent composition of a compound that is 29.0 g of Ag with 4.30 g of 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etting it from the formul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we know the formula, assume you have 1 mo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 you know the pieces and the who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percent composition of C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percent composition of Aluminum carbonat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ed as the number of carbon atoms in exactly 12 grams of carbon-1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mole is 6.02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partic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 it like a very large doz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02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is called Avogadro's numb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cent to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 % by the total mass to find the mass of that compone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uch aluminum in 450 g of aluminum carbonate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mpirical Formul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percentage to formu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Empirical Formul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owest whole number ratio of elements in a compoun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lecular formula the actual ratio of elements in a compoun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wo can be the same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mpirical formu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olecular formu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olecular formu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bo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nding Empirical Formul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 find the lowest whole number rat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not just the ratio of atoms, it is also the ratio of moles of ato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1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Empirical Formul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ns we can get ratio from percent composi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e you have a 100 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ercentages become gra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rn grams to mole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lowest whole number ratio by dividing everything by the smallest mo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empirical formula of a compound composed of 38.67 % C, 16.22 % H, and 45.11 %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e 100 g 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8.67 g C  x   1mol C     = 3.220 mole C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01 gC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.22 g H x   1mol H     = 16.1 mole H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01 g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5.11 g N  x   1mol N   = 3.220 mole 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.01 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276720" y="3733920"/>
            <a:ext cx="1752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352680" y="4800600"/>
            <a:ext cx="175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352680" y="5867280"/>
            <a:ext cx="175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atio is 3.220 mol C  = 1 mol 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3.220 molN      1 mol 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atio is 16.1  mol H  =  5 mol 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3.220 molN      1 mol 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ffeine is 49.48% C, 5.15% H, 28.87% N and 16.49% O. What is its empirical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3024360" y="1828800"/>
            <a:ext cx="2538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 flipV="1">
            <a:off x="6072120" y="1847520"/>
            <a:ext cx="15480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3100320" y="2895480"/>
            <a:ext cx="2538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V="1">
            <a:off x="6148440" y="2914200"/>
            <a:ext cx="154764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mpirical to molecula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ffeine is 49.48% C, 5.15% H, 28.87% N and 16.49% O. What is its empirical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the empirical formula is the lowest ratio the actual molecule would weigh the same or mo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 a whole number multip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vide the actual molar mass by the the mass of one mole of the empirical formul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ill get a whole numb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 the empirical formula by thi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mpound has an empirical formula of Cl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a molar mass of 98.96 g/mol. What is its molecular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mpound has an empirical formula of 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and a molar mass of 180.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/mol. What is its molecular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cent to molecula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the percent x the molar m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gives you mass in one mole of the compo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 this to mo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ill get whole nu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re the subscrip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ffeine is 49.48% C, 5.15% H, 28.87% N and 16.49% O. It has a molar mass of 194 g. What is its molecular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3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presentative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mallest pieces of a subst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an element it is an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t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ess it is diatom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a molecular compound it is a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olecu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an ionic compound it is a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formula uni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uprofen is 75.69 % C, 8.80 % H, 15.51 % O, and has a molar mass of about 207 g/mol. What is its molecular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to change unit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ee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unit do you want to get rid of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does it go to cancel ou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can you change it into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on ques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molecules of C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re the in 4.56 moles of C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on ques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moles of water is 5.87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molecul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on ques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atoms of  carbon are there in 1.23 moles of 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2T16:36:52Z</dcterms:created>
  <dc:creator>Jill Luckey</dc:creator>
  <dc:description/>
  <dc:language>en-US</dc:language>
  <cp:lastModifiedBy>jluckey</cp:lastModifiedBy>
  <dcterms:modified xsi:type="dcterms:W3CDTF">2011-03-30T14:38:54Z</dcterms:modified>
  <cp:revision>68</cp:revision>
  <dc:subject/>
  <dc:title>Chapter 6</dc:title>
</cp:coreProperties>
</file>